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DB47-D4FF-4CAE-AEC4-040EBBC8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D94A-43ED-4AA6-ABF0-CF4F20AF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ADB0-2314-41C5-A514-4C16CC26F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7325-68E0-4145-8CE3-60FF0E75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80A3-65F2-4A97-90F6-653EFF14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80B6-F75D-4824-863F-32F681D3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D8D4-A198-4BFF-9B59-22701324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B6EE-EE1F-4CB5-AC15-E8F4E656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969E-296D-43AB-9AEB-AAD6C1FE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B227-CB62-44CA-B481-08330E92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181A-C5EE-4B83-A8E0-5122CAF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854E-2895-4A67-8162-74CAD2EC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71F5-5E54-4DF8-9F26-FC64D144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94CF-C8B7-469C-AAD7-A5C6849D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AFC7C-EC36-4216-9057-3AD420A9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A38F-6593-48B4-A32A-0D75CCFD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04367-E3D0-4DFC-86D1-3D912BB65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3C54-6DBD-40B9-A168-786D97EC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C042-123F-470A-9606-920C6B8C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27E8-EB59-441A-A6B4-F5302A5D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FF69-C160-4D97-B519-945058F4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1B31-6168-46F2-92F1-778A98C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3C17-AA3E-49D4-91B3-37AD7B1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A0871-A1F6-4316-B87A-2441E0E2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0E1-6996-4E67-A99D-CF969040DF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044C-A215-427E-B718-437BD631E2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432440" y="333000"/>
            <a:ext cx="213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Century Schoolbook"/>
                <a:ea typeface="Times New Roman"/>
              </a:rPr>
              <a:t>Lipids Jigsaw Rubric</a:t>
            </a: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Century Gothic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24000" y="692280"/>
          <a:ext cx="8569080" cy="5054400"/>
        </p:xfrm>
        <a:graphic>
          <a:graphicData uri="http://schemas.openxmlformats.org/drawingml/2006/table">
            <a:tbl>
              <a:tblPr/>
              <a:tblGrid>
                <a:gridCol w="1871640"/>
                <a:gridCol w="1800000"/>
                <a:gridCol w="1500120"/>
                <a:gridCol w="1308240"/>
                <a:gridCol w="1436760"/>
                <a:gridCol w="652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Poin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rganiz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Audience cannot understand presentation because there is no sequence of inform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Audience has difficulty following presentation because student jumps aroun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presents information in logical sequence which audience can follo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presents information in logical, interesting sequence which audience can follo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Content Knowled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does not have a grasp of information; student cannot answer questions about subjec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is uncomfortable with information and is able to answer some questio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is at ease with content, but fails to elabora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demonstrates full knowledge with explanations and elabor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Visua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used no visua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occasionally used visuals that rarely support text and present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Visuals related to text and present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used visuals to reinforce screen text and present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Delive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mumbles, incorrectly pronounces terms, and speaks too quietly for students around to he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incorrectly pronounces terms. Audience members have difficulty hear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’s voice is clear. Student pronounces most words correctl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Student used a clear voice and correct, precise pronunciation of term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Paper (note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lacked content and were very uncle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Book Antiqua"/>
                          <a:ea typeface="Times New Roman"/>
                        </a:rPr>
                        <a:t>were clear and logic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"/>
          <p:cNvSpPr/>
          <p:nvPr/>
        </p:nvSpPr>
        <p:spPr>
          <a:xfrm>
            <a:off x="7093080" y="6021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: ___/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7:48:04Z</dcterms:created>
  <dc:creator>MattJodi</dc:creator>
  <dc:description/>
  <dc:language>en-US</dc:language>
  <cp:lastModifiedBy>nbdoe</cp:lastModifiedBy>
  <dcterms:modified xsi:type="dcterms:W3CDTF">2008-03-19T15:32:03Z</dcterms:modified>
  <cp:revision>2</cp:revision>
  <dc:subject/>
  <dc:title>Slide 1</dc:title>
</cp:coreProperties>
</file>